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4BF1-1BEE-4DAA-ACB4-9C73A61D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4B6D-7D1D-454A-9664-00DFB5CC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8797-867B-4A6A-A3E8-11DCC79F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345B-4D63-4BA4-B04C-E11E8D68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73E6-C579-47D8-8EB4-DED73E4F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2CBE-56E0-41DA-8273-B19C39ED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0F80-6AD9-4256-AC00-42C863DD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5D93-1E3D-4816-8D37-E4A7CD11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DE3-AC65-48BD-8F3F-6A4DFB1A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0010-AE85-497D-BD8A-7E79F3CD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D30-4EBE-4249-9620-BAB65E86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C150-9965-48BD-9F3E-CEE8DBF0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F75F-B3BA-469E-9739-A58A11691671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000000"/>
                </a:solidFill>
                <a:latin typeface="Calibri"/>
              </a:rPr>
              <a:t>World Population Chang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pulation of the world grows according to two factors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rth r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ath r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The relationship between these two is called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tural increa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birth rate is higher than death rate there will be a positive natural increase and the population will gr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birth rate is lower than death rate there will be a negative natural increase and the population will f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birth rate and death rate are at a similar level the will be no natural incr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rth Rate - Death Rate = Natural Incr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actors Which Control Birth R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irth rat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an change for a number of reason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gh birth rates occur in countries where large families are needed so that the children can work at an early ag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milies often have large numbers of children so that will be someone around to look after the parents in their old ag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religions ban the use of contraception, meaning that the birth rate is harder to contro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actors Which Control Birth R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irth rat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all due to improvements in health care, meaning that children are more likely to survive into old ag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men in many countries, especially in MEDC's, tend to get married later and have children later, as they want to establish a career firs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e education in the use of contraceptives has also helped to slow birth rate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some countries the birth rate has been artificially controlled by the law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ina is the best example of a country which has tried thi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actors Which Control Death R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ath ra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high in countries where there is poor health care, bad sanitation or insufficient fo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ily these are less developed countries that do not have the money or expertise to improve the situ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countries often have problems of dis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actors Which Control Death R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ath rat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primarily fall due to improvements in health care, including better access to it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clean water supply and better sanitation means that the threat of disease also diminis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3:42:29Z</dcterms:created>
  <dc:creator>Dell_02</dc:creator>
  <dc:description/>
  <dc:language>en-US</dc:language>
  <cp:lastModifiedBy>Dell_02</cp:lastModifiedBy>
  <dcterms:modified xsi:type="dcterms:W3CDTF">2011-01-25T03:49:57Z</dcterms:modified>
  <cp:revision>1</cp:revision>
  <dc:subject/>
  <dc:title>World Population Change</dc:title>
</cp:coreProperties>
</file>